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1.gif" ContentType="image/gif"/>
  <Override PartName="/ppt/media/image12.wmf" ContentType="image/x-wmf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5C63-6168-4401-9E1E-F6C092AF49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B280-19AF-49D1-9108-BEA9032213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B127-7AC9-49D3-80D6-0F50B4BEEF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DA19-F053-47FA-B2F8-6BFC269403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14A1-EFB5-4248-BE0B-42D7E4F63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E24D-23FD-4A42-8E66-DF0C69D5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B6A0-CCFE-4440-A62B-32258E1E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856A-2043-4953-BB83-5B93BBD22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3E99-A211-4DEE-9E62-F1891ABAA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D267-DF9F-46DE-AF0C-5942350F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1843-5991-462D-8E6A-3C0F7EA7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537C-05F4-4FD6-AF74-1F84A568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987C-AF8D-4BD6-8D01-3B2977E6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A830-76AE-4C7F-B211-8EC5EF41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17CF-53CE-4549-871A-975D6663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BB86-7314-48D8-901B-F171A370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9074-A05B-4523-8A80-76AC75AE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329F-65D0-4470-A2BD-DD2FF58B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43D0-BD59-4021-B53E-F604CAF9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6B56-5A74-41CF-A433-ED29CCBB9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7EEF-A7B7-4A2E-AE8A-D3E17C546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299AF-B779-47BD-B6C8-9F3518337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FB626-4EBA-4B64-9ADE-232E9DEE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64F98-0457-444D-97CB-00AF0325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3E868-A2CD-4F12-A64A-56946D61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4F677-F91E-4CD5-8B88-7B7183E7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2C36-1F00-4A07-B1B8-7C4430D4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77211-EACC-43CA-8BA9-5F98A4D3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515E3-858C-4352-94A7-3C4F5648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F1986-A836-461F-AFB2-3A17DFD3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3BD14-34C2-4401-984E-6EF46CC3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80F53-56E2-4662-94E1-72E0E148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D7EA0-DB85-41AF-8CC9-CE587567D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2851C-E15E-4EA3-A652-6FFCC4AC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516E-9D6A-453D-B57E-1A08F75B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315E-D648-48D0-A7E4-BB086F43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AC79-B572-4811-8DF4-9D8A4A9C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C5E1-A114-4AE9-8A45-691213D9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8B1F-9CA0-4210-B22B-DBEC51D3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F584-8D96-4448-A3F0-133C8394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4291-E97D-4992-BC8A-75889C4B5A02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3F97-85B9-4F41-89E5-814374F20194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logomarksml.gif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logomarksml.gif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7"/>
          <p:cNvSpPr/>
          <p:nvPr/>
        </p:nvSpPr>
        <p:spPr>
          <a:xfrm>
            <a:off x="500040" y="1500120"/>
            <a:ext cx="8215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01A7-A265-49DE-B693-B5BDA4FE2579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4EA4-22D2-4393-961D-1509A6B9D9E8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logomarksml.gif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86" name="Straight Connector 7"/>
          <p:cNvSpPr/>
          <p:nvPr/>
        </p:nvSpPr>
        <p:spPr>
          <a:xfrm>
            <a:off x="500040" y="1500120"/>
            <a:ext cx="8215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4C14-EFAF-4D10-9C3A-AEF20409B098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A1F1-44A1-486C-B615-4E7B585D466F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vodpod.com/watch/2090231-digital-education-revolution-nsw?pod=lofts1964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2"/>
          <p:cNvSpPr/>
          <p:nvPr/>
        </p:nvSpPr>
        <p:spPr>
          <a:xfrm>
            <a:off x="457200" y="2209680"/>
            <a:ext cx="8229600" cy="53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Welcome to Rose Bay Secondary Colle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Parent Information N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6.00 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NAPLAN.. Interpreting the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Questions and Answ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6.30 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Digital Education R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Information and pres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All parents are to pick up their Info. Pack. User agreements to be signed and returned to front office. By the end of Term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HeaderforNews copy.jpg"/>
          <p:cNvPicPr/>
          <p:nvPr/>
        </p:nvPicPr>
        <p:blipFill>
          <a:blip r:embed="rId1"/>
          <a:stretch/>
        </p:blipFill>
        <p:spPr>
          <a:xfrm>
            <a:off x="1371600" y="380880"/>
            <a:ext cx="6756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Side Vie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R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642960" y="2214720"/>
            <a:ext cx="7286760" cy="2292120"/>
          </a:xfrm>
          <a:prstGeom prst="rect">
            <a:avLst/>
          </a:prstGeom>
          <a:ln w="0">
            <a:noFill/>
          </a:ln>
        </p:spPr>
      </p:pic>
      <p:sp>
        <p:nvSpPr>
          <p:cNvPr id="166" name="TextBox 4"/>
          <p:cNvSpPr/>
          <p:nvPr/>
        </p:nvSpPr>
        <p:spPr>
          <a:xfrm>
            <a:off x="571680" y="4272120"/>
            <a:ext cx="3500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1. Not inclu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2. Headphone jack (externa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3. Microphone jack (externa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4. USB 2.0 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4071960" y="4272120"/>
            <a:ext cx="450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5. LAN 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6. Security keyhole - You can purchase a security cable and lock to fit this keyhole. Before purchasing any security product, verify that it is compatible with this type of security keyhole. (Example: Kensington Lock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Issu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60436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Charter must be signed and returned before laptop is issu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Must know DET username and password for issu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Recording features used in an appropriate wa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Power cables will not be brought to  schoo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Return if on extended lea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0" name="Content Placeholder 3" descr=""/>
          <p:cNvPicPr/>
          <p:nvPr/>
        </p:nvPicPr>
        <p:blipFill>
          <a:blip r:embed="rId1"/>
          <a:stretch/>
        </p:blipFill>
        <p:spPr>
          <a:xfrm>
            <a:off x="6429240" y="1714680"/>
            <a:ext cx="22291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Who to get help from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Technology Service Officers – will help resolve technical problems including hardware faul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Our TS0 is Robbie Cottrell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He will be located in the Library tech roo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He will accept lappies at  the front counter During Recess &amp; Lunch Tues to Thursday for tech assist. No students out of clas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Your classroom teacher can help you with your DET passwor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Safety &amp; Securi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Hard case to prote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Theft – police reports, Tracking and lock down op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Provisions for damage (spare machine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Stickers to personali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Backing up dat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My locker and looking after your laptop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Our expect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6840" y="1600200"/>
            <a:ext cx="454356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ffffff"/>
                </a:solidFill>
                <a:latin typeface="Calibri"/>
              </a:rPr>
              <a:t>Students will bring every day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ffffff"/>
                </a:solidFill>
                <a:latin typeface="Calibri"/>
              </a:rPr>
              <a:t>Laptops will be fully charged every night. Students will not bring chargers to school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ffffff"/>
                </a:solidFill>
                <a:latin typeface="Calibri"/>
              </a:rPr>
              <a:t>Will replace student diaries for Stage 5  in 2010. A digital diary will be trialled this year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ffffff"/>
                </a:solidFill>
                <a:latin typeface="Calibri"/>
              </a:rPr>
              <a:t>Normal discipline procedures will be applied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Picture 4" descr="{90bf3d9d-497f-4e0c-a342-d5de42860eb8}.jpg"/>
          <p:cNvPicPr/>
          <p:nvPr/>
        </p:nvPicPr>
        <p:blipFill>
          <a:blip r:embed="rId1"/>
          <a:stretch/>
        </p:blipFill>
        <p:spPr>
          <a:xfrm>
            <a:off x="5072040" y="1714680"/>
            <a:ext cx="37162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What will lessons be like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1600200"/>
            <a:ext cx="39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Will change over time when we have full networ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Use of software like OneNote to turn into an exercise boo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Similar initial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0" name="Picture 3" descr="{a14ed644-2614-4c83-9b15-04445cf8a4ee}[1].JPG"/>
          <p:cNvPicPr/>
          <p:nvPr/>
        </p:nvPicPr>
        <p:blipFill>
          <a:blip r:embed="rId1"/>
          <a:stretch/>
        </p:blipFill>
        <p:spPr>
          <a:xfrm>
            <a:off x="4643280" y="2500200"/>
            <a:ext cx="4048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did some students say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s://www.det.nsw.edu.au/proflearn/der/staffdev/vision.htm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ideo 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s://www.det.nsw.edu.au/proflearn/der/staffdev/vision.htm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 &amp; A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formation 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www.schools.nsw.edu.au/derns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Some Answers to some question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ttps://detwww.det.nsw.edu.au/deptresources/majorprojects/dernsw/faqs/laptop/index.ht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090603-RJE_0559.jpg"/>
          <p:cNvPicPr/>
          <p:nvPr/>
        </p:nvPicPr>
        <p:blipFill>
          <a:blip r:embed="rId1"/>
          <a:stretch/>
        </p:blipFill>
        <p:spPr>
          <a:xfrm>
            <a:off x="1285920" y="857160"/>
            <a:ext cx="6646680" cy="44290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2"/>
          <p:cNvSpPr/>
          <p:nvPr/>
        </p:nvSpPr>
        <p:spPr>
          <a:xfrm>
            <a:off x="457200" y="5500800"/>
            <a:ext cx="8229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Rose Bay Secondary College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alibri"/>
              </a:rPr>
              <a:t>Digital Education Revolution</a:t>
            </a: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AU" sz="2800" spc="-1" strike="noStrike">
                <a:solidFill>
                  <a:srgbClr val="ffffff"/>
                </a:solidFill>
                <a:latin typeface="Calibri"/>
              </a:rPr>
              <a:t>Year 9  2009 &amp; 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The Digital Education Revolu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1600200"/>
            <a:ext cx="46148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Calibri"/>
              </a:rPr>
              <a:t>The DER is a Federal initiative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Calibri"/>
              </a:rPr>
              <a:t>Rudd promised Children Yr 9 – 12  access to a computer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Calibri"/>
              </a:rPr>
              <a:t>The laptop program is NSW DET’s implementation of that promise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Calibri"/>
              </a:rPr>
              <a:t>Laptops will be rolled out each year to Yr 9 students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Calibri"/>
              </a:rPr>
              <a:t>By 2012, all students in Yrs 9 – 12 will have a laptop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Calibri"/>
              </a:rPr>
              <a:t>The program also includes a high speed wireless network, laptops for staff, staff training and technical support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Content Placeholder 4" descr="{330df5d1-490b-4ac9-944a-cacd3511e3b0}.jpg"/>
          <p:cNvPicPr/>
          <p:nvPr/>
        </p:nvPicPr>
        <p:blipFill>
          <a:blip r:embed="rId1"/>
          <a:stretch/>
        </p:blipFill>
        <p:spPr>
          <a:xfrm>
            <a:off x="5286240" y="1571760"/>
            <a:ext cx="3326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gital Education Revolution 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vodpod.com/watch/2090231-digital-education-revolution-nsw?pod=lofts1964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What is happen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Laptops will be arriving term 4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Theirs while at a State schoo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Theirs to keep after Yr 1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A limited number of rooms on the wireless network. More will be adde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Some staff have laptops. More will be issue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State wide interest in our experien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6" name="Picture 3" descr="090603-RJE_0838.jpg"/>
          <p:cNvPicPr/>
          <p:nvPr/>
        </p:nvPicPr>
        <p:blipFill>
          <a:blip r:embed="rId1"/>
          <a:stretch/>
        </p:blipFill>
        <p:spPr>
          <a:xfrm>
            <a:off x="6072120" y="1785960"/>
            <a:ext cx="264312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The Lapto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2000160" y="2278080"/>
            <a:ext cx="514368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Top Vie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5286240" cy="40687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8"/>
          <p:cNvSpPr/>
          <p:nvPr/>
        </p:nvSpPr>
        <p:spPr>
          <a:xfrm>
            <a:off x="6000840" y="1643040"/>
            <a:ext cx="2714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1. Integrated Cam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2. Computer display - The colour display with T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3. Power button (Use the Power button to turn on the computer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4. Microphone (built-i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5. (Not u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6. Wireless device swit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Bottom Vie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571680" y="1643040"/>
            <a:ext cx="4628880" cy="45259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4"/>
          <p:cNvSpPr/>
          <p:nvPr/>
        </p:nvSpPr>
        <p:spPr>
          <a:xfrm>
            <a:off x="5643720" y="1785960"/>
            <a:ext cx="2928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1. Battery latch - spring loaded (To remove the batter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2. Battery p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3. Battery latch – man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Side View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500040" y="2071800"/>
            <a:ext cx="5000760" cy="12031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"/>
          <p:cNvSpPr/>
          <p:nvPr/>
        </p:nvSpPr>
        <p:spPr>
          <a:xfrm>
            <a:off x="501120" y="1571760"/>
            <a:ext cx="10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Fr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579960" y="3429000"/>
            <a:ext cx="8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5572080" y="1643040"/>
            <a:ext cx="3143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1. System status indicators - The system status indicators show the current status of your compu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2. Speakers - Built-in speakers for rich powerful sou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2"/>
          <a:stretch/>
        </p:blipFill>
        <p:spPr>
          <a:xfrm>
            <a:off x="500040" y="4214880"/>
            <a:ext cx="4572000" cy="13874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10"/>
          <p:cNvSpPr/>
          <p:nvPr/>
        </p:nvSpPr>
        <p:spPr>
          <a:xfrm>
            <a:off x="5429160" y="4000680"/>
            <a:ext cx="371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1. Fan louvers - The fan louvers allow warm air to exit the compu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2. AC power adapter jack - Connect the power adapter here (AC adapter onl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28760" y="592920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3. VGA port       4. Multi-media reader slot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</a:rPr>
              <a:t>5. USB 2.0 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06:47:44Z</dcterms:created>
  <dc:creator>MWATSON8</dc:creator>
  <dc:description/>
  <dc:language>en-US</dc:language>
  <cp:lastModifiedBy>Denise Lofts</cp:lastModifiedBy>
  <dcterms:modified xsi:type="dcterms:W3CDTF">2009-09-22T07:07:41Z</dcterms:modified>
  <cp:revision>72</cp:revision>
  <dc:subject/>
  <dc:title>Slide 1</dc:title>
</cp:coreProperties>
</file>